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92E-6DAA-4537-AAF0-EF6237C1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15F-D1D7-452E-AC63-3130E532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B4F-6560-4ADA-93FF-299775D9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B58-E4FB-432E-8C2C-7C25174B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0736-0122-4FE6-88E3-2F4759FE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9C8D-1C33-4CED-B098-97826A09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E253-E6D6-47C9-A9E5-F92B3D27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DF08-375A-4EC6-90F1-5A6726FE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D11D-680B-4014-B7B5-72EE25F7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1C4A-7551-485C-BFA7-4456A606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60EE-74E3-45B3-BA51-B76FAAEB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74F-64DE-4E7A-B602-223FFA96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2A1C-9581-4E1A-AFEC-31051D5C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5518-41D7-4EBB-BE89-471F8995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CF13-3613-42D4-9A3D-BF54FF9C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B883-7EF4-4CEA-8A3C-87162410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C950-0581-4E82-B9B7-CBC01294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FA2-EBBF-4060-A8AB-422EAE34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A74-C7EB-40BD-8203-B7A55EFE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87D-420F-4ABC-A412-DF27A651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3C2-C725-4B1C-BA81-4CEB3DBF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9DD-F777-4FEE-B27D-53D07C49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123-D4AC-4D84-B4F8-564B1978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5E7-B84C-447C-881B-833A3F83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B97F-B19C-4907-A867-3918EF06BA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033D-C0A8-4CDC-98D0-B5FA42B72BE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G 44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ing Strategies and Classroom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Verk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CF College of Education and Human Perform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l 20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delivery mode, a way by which you deliver the content of the le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lso known as didactic, explicit, expository, or traditional 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is basically                            passed on from                                those who know                               to those who don’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678640" y="4191120"/>
            <a:ext cx="3084480" cy="205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the secondary level, direct                                      instruction tends to be based                          on textbook rea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tends to be lecture in forma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lanning and questioning                        are teacher-centered (i.e., not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d on student needs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6576840" y="2209680"/>
            <a:ext cx="203364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be used for teaching facts, rules, and action seque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focus on teaching                                       units of the content so                                                  they can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membe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focus on the low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vels of the cognitive dom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s tend to be convergent (having only one answer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3" descr="Two cognitive domains.png"/>
          <p:cNvPicPr/>
          <p:nvPr/>
        </p:nvPicPr>
        <p:blipFill>
          <a:blip r:embed="rId1"/>
          <a:srcRect l="0" t="0" r="49610" b="0"/>
          <a:stretch/>
        </p:blipFill>
        <p:spPr>
          <a:xfrm>
            <a:off x="6400800" y="2819520"/>
            <a:ext cx="1996920" cy="1685880"/>
          </a:xfrm>
          <a:prstGeom prst="rect">
            <a:avLst/>
          </a:prstGeom>
          <a:ln w="0">
            <a:noFill/>
          </a:ln>
        </p:spPr>
      </p:pic>
      <p:sp>
        <p:nvSpPr>
          <p:cNvPr id="120" name="Striped Right Arrow 4"/>
          <p:cNvSpPr/>
          <p:nvPr/>
        </p:nvSpPr>
        <p:spPr>
          <a:xfrm rot="19245000">
            <a:off x="6086520" y="4224240"/>
            <a:ext cx="762120" cy="533520"/>
          </a:xfrm>
          <a:custGeom>
            <a:avLst/>
            <a:gdLst/>
            <a:ahLst/>
            <a:rect l="l" t="t" r="r" b="b"/>
            <a:pathLst>
              <a:path w="762000" h="533400">
                <a:moveTo>
                  <a:pt x="0" y="133350"/>
                </a:moveTo>
                <a:lnTo>
                  <a:pt x="16669" y="133350"/>
                </a:lnTo>
                <a:lnTo>
                  <a:pt x="16669" y="400050"/>
                </a:lnTo>
                <a:lnTo>
                  <a:pt x="0" y="400050"/>
                </a:lnTo>
                <a:lnTo>
                  <a:pt x="0" y="133350"/>
                </a:lnTo>
                <a:close/>
                <a:moveTo>
                  <a:pt x="33338" y="133350"/>
                </a:moveTo>
                <a:lnTo>
                  <a:pt x="66675" y="133350"/>
                </a:lnTo>
                <a:lnTo>
                  <a:pt x="66675" y="400050"/>
                </a:lnTo>
                <a:lnTo>
                  <a:pt x="33338" y="400050"/>
                </a:lnTo>
                <a:lnTo>
                  <a:pt x="33338" y="133350"/>
                </a:lnTo>
                <a:close/>
                <a:moveTo>
                  <a:pt x="83344" y="133350"/>
                </a:moveTo>
                <a:lnTo>
                  <a:pt x="495300" y="133350"/>
                </a:lnTo>
                <a:lnTo>
                  <a:pt x="495300" y="0"/>
                </a:lnTo>
                <a:lnTo>
                  <a:pt x="762000" y="266700"/>
                </a:lnTo>
                <a:lnTo>
                  <a:pt x="495300" y="533400"/>
                </a:lnTo>
                <a:lnTo>
                  <a:pt x="495300" y="400050"/>
                </a:lnTo>
                <a:lnTo>
                  <a:pt x="83344" y="400050"/>
                </a:lnTo>
                <a:lnTo>
                  <a:pt x="83344" y="13335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bstraction or concept to be taught is stated by the teach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ef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amples are given, and then the examples are provided to help illustrate the abstra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3200400" y="3944880"/>
            <a:ext cx="3240000" cy="268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equence of a Direct Teach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Content Placeholder 3" descr=""/>
          <p:cNvPicPr/>
          <p:nvPr/>
        </p:nvPicPr>
        <p:blipFill>
          <a:blip r:embed="rId1"/>
          <a:stretch/>
        </p:blipFill>
        <p:spPr>
          <a:xfrm>
            <a:off x="1030320" y="1981080"/>
            <a:ext cx="76136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dvantages of Direct Teach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the questioning tends to be convergent, this approach tends to be more time-efficient than indirect, discovery, or inquiry lessons that have a lot of groupwork and student interac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it is teacher-directed, this type of lesson gives the teacher more control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skill in questioning is required; hence, there is less need for skilled classroom interactio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Karen Verkler</dc:creator>
  <dc:description/>
  <dc:language>en-US</dc:language>
  <cp:lastModifiedBy>Karen Verkler</cp:lastModifiedBy>
  <dcterms:modified xsi:type="dcterms:W3CDTF">2014-07-30T14:03:29Z</dcterms:modified>
  <cp:revision>348</cp:revision>
  <dc:subject/>
  <dc:title>Slide 1</dc:title>
</cp:coreProperties>
</file>